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89E-F6F1-4072-AADC-9C9FE46C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A3E-7605-4F39-8086-49E3E9BF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EE2-82AE-4780-85B8-984FB785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2CD-A8D6-4A18-8E6C-61C65A25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641-F495-42B1-A470-64B1A070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CF5-B0AC-4075-A82E-C5C78649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97B-2DE3-4AD6-ADDD-F4D80FDC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8BD-7770-4DCA-BBAB-602B0D51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26B-2175-4700-97A0-D264D844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9C4-B377-45F3-9F6D-16FF3949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AA5-B532-4CEA-AC4A-4041B804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B17-4D81-4AB1-91BE-3AD0513C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B22F-D498-4AC6-8B40-BCE8BA833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228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G Times"/>
                <a:ea typeface="Times New Roman"/>
              </a:rPr>
              <a:t>For Official Us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760" y="2637000"/>
            <a:ext cx="182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1066680" cy="13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77760" y="3278160"/>
          <a:ext cx="1828800" cy="103500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56320" y="4465440"/>
            <a:ext cx="634500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  <a:ea typeface="Times New Roman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  <a:ea typeface="Times New Roman"/>
              </a:rPr>
              <a:t>SOLDIER SUPPORT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  <a:ea typeface="Times New Roman"/>
              </a:rPr>
              <a:t>REVIEW PERSONNEL EVALU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G Times"/>
                <a:ea typeface="Times New Roman"/>
              </a:rPr>
              <a:t>Student Hand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680" y="815328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Official Us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852480" y="-762120"/>
            <a:ext cx="8562960" cy="10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609480" y="-76320"/>
            <a:ext cx="7924680" cy="9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6858000" cy="96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895320" y="-61920"/>
            <a:ext cx="8648640" cy="92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5:05:52Z</dcterms:created>
  <dc:creator>Administrator</dc:creator>
  <dc:description/>
  <dc:language>en-US</dc:language>
  <cp:lastModifiedBy>Administrator</cp:lastModifiedBy>
  <dcterms:modified xsi:type="dcterms:W3CDTF">2005-08-15T18:38:21Z</dcterms:modified>
  <cp:revision>2</cp:revision>
  <dc:subject/>
  <dc:title>Slide 1</dc:title>
</cp:coreProperties>
</file>